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2680-A42D-40CB-920E-87CD100C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1E36-6711-4BDE-BB9C-01A70026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163E-6B5A-486C-92C0-1EB1FF24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FDE9D-0A72-4C0C-975F-004771F4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8015-6B06-4E5A-A05E-360A3883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A51B-0308-4A0B-8BD9-ADFB1432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1824-3101-425F-B76A-E62DE77B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BE54-CC79-4FEA-980A-E12FA80F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E26F-7144-477F-836B-4D38ABAA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C66F-8FD2-4571-98A5-522F1C87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E138-B6D8-49E6-A382-FEC0BBC6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E424-426A-4675-B867-4803A13C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1ABD-6D48-4B66-AF2E-7B92406E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2293-7482-4027-A80E-0E5DB1E9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A453-3E40-4DC6-B2AA-8780996E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4BC7-7030-48B4-B476-AA655A39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3E3A-51A3-40A2-9500-66083ACC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91FC-C86D-4D6D-94D6-E3E7A79D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D6539-4F1D-4D82-AB7C-1B6B8951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FB39-3B4C-4120-8C92-486765F3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167B0-7522-4060-8E53-35DDAEB0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9356-00CC-4A0F-988B-78822674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0DF5-D50A-434B-B9B0-71C26728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04241-C03E-4173-8E1E-8BA6FAE1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91C7-7540-4FD5-922F-8CCD81320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2486-C231-4885-8645-EED8E1460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34EE-76D1-41EB-A0CE-98B1F2ED98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4640" y="1733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the ciphertext matrix was created by multiplying the plaintext matrix by the key matrix 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key matrix can be recovered if we know the inverse of the plaintext 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3796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 = M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0920" y="5484960"/>
            <a:ext cx="257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 = M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8680" y="5513400"/>
            <a:ext cx="436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Process:  Find the invers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the known plaintext, multip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it times a segment of ciphertex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and check the resulting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FE28-98F9-45F9-A179-8ACF420803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7480" y="1722600"/>
            <a:ext cx="73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 Hill cipher by hand is very time consuming however CAP will automate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35320" y="3297240"/>
            <a:ext cx="5648040" cy="35607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7288200" y="3056040"/>
            <a:ext cx="1533600" cy="723960"/>
            <a:chOff x="7288200" y="3056040"/>
            <a:chExt cx="1533600" cy="723960"/>
          </a:xfrm>
        </p:grpSpPr>
        <p:sp>
          <p:nvSpPr>
            <p:cNvPr id="124" name=""/>
            <p:cNvSpPr/>
            <p:nvPr/>
          </p:nvSpPr>
          <p:spPr>
            <a:xfrm>
              <a:off x="7288200" y="30560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8320" y="3203640"/>
              <a:ext cx="1471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your best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uess for the 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30680" y="3027240"/>
            <a:ext cx="1539360" cy="723960"/>
            <a:chOff x="4630680" y="3027240"/>
            <a:chExt cx="1539360" cy="723960"/>
          </a:xfrm>
        </p:grpSpPr>
        <p:sp>
          <p:nvSpPr>
            <p:cNvPr id="127" name=""/>
            <p:cNvSpPr/>
            <p:nvPr/>
          </p:nvSpPr>
          <p:spPr>
            <a:xfrm>
              <a:off x="4630680" y="30272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90800" y="3174840"/>
              <a:ext cx="147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a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laintex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40440" y="4151160"/>
            <a:ext cx="1533600" cy="723600"/>
            <a:chOff x="6040440" y="4151160"/>
            <a:chExt cx="1533600" cy="723600"/>
          </a:xfrm>
        </p:grpSpPr>
        <p:sp>
          <p:nvSpPr>
            <p:cNvPr id="130" name=""/>
            <p:cNvSpPr/>
            <p:nvPr/>
          </p:nvSpPr>
          <p:spPr>
            <a:xfrm>
              <a:off x="6040440" y="4151160"/>
              <a:ext cx="1533600" cy="72360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30080" y="4184280"/>
              <a:ext cx="1352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y the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ys until one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9FB2-B02C-4456-B69E-AC048F5575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6T23:19:17Z</dcterms:modified>
  <cp:revision>69</cp:revision>
  <dc:subject/>
  <dc:title>CAP Cryptographic Analysis Program</dc:title>
</cp:coreProperties>
</file>